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ct" ContentType="image/x-pict"/>
  <Override PartName="/ppt/media/image9.pct" ContentType="image/x-pict"/>
  <Override PartName="/ppt/media/image1.jpeg" ContentType="image/jpeg"/>
  <Override PartName="/ppt/media/image3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3.jpeg" ContentType="image/jpeg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4BB-E0E2-4F05-A55F-6C7844AC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E02-8D2B-48F9-9419-86EBCD1D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A54-8E5C-4DFA-80C0-70723B2A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3D9-73CE-4F9E-9E51-8DA6B58A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9DAE-F711-4CA9-BCDA-E0C5A429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8E0C-18C8-407B-AA12-7B1D80CD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B69F-D66F-4264-81A7-4CD4A993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7E58-13D9-4E74-9193-0BBB1AF7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A3C6-B786-494D-A544-113BEE32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1AC4-A23A-4EC8-B753-0FA45EA2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3044-7028-4392-8D63-9984EF7D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2EC-F8E0-423F-809A-6B1A4839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D720-8A92-4FAA-B4B6-CC71386F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8217-4BFD-429A-85A9-4188752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5061-9148-42E9-90B4-46DB0939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E382-F185-4A3F-9985-42441341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5364-7957-492D-82C2-1B3DF398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401-C749-4B14-B621-746EF9E9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019-3C03-4982-8F4C-E425C0E9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B32-0F8B-42C3-9651-E45F8D58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1A6-4A78-453D-B1C8-AD624889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A93-AA5E-4BC5-A93A-7CB4C6D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EA2-F996-4D4D-AD65-9748A140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EE4-0C1B-452B-B34A-48D3314B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8CEF-BB0B-4FBD-910E-BF711D051D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D8C9-1F30-4C68-83A5-7C5A77F7D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6.pct"/><Relationship Id="rId7" Type="http://schemas.openxmlformats.org/officeDocument/2006/relationships/image" Target="../media/image8.pct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ythencyclopedia.com/Pa-Pr/Prometheus.html" TargetMode="External"/><Relationship Id="rId3" Type="http://schemas.openxmlformats.org/officeDocument/2006/relationships/hyperlink" Target="http://www.crossref-it.info/textguide/frankenstein/7/337" TargetMode="External"/><Relationship Id="rId4" Type="http://schemas.openxmlformats.org/officeDocument/2006/relationships/hyperlink" Target="http://en.wikipedia.org/wiki/Frankenstein#Modern_Prometheus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8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The Prometheus My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irMdITC TT-Medium"/>
              </a:rPr>
              <a:t>By Tanya Montal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restige Elite Std Bold"/>
              </a:rPr>
              <a:t>Promethe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Became great helpful to manki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Teaching them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Astronomy (Study a st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Navigation (follow the map trav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Medici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A number of other useful skil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1447920" cy="137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1447920" cy="925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7200" y="4419720"/>
            <a:ext cx="1447920" cy="110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57200" y="5486400"/>
            <a:ext cx="1447920" cy="11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57200" y="1295280"/>
            <a:ext cx="1447920" cy="865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57200" y="22860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282353" t="0" r="470588" b="752609"/>
          <a:stretch/>
        </p:blipFill>
        <p:spPr>
          <a:xfrm>
            <a:off x="3276720" y="2979720"/>
            <a:ext cx="4495680" cy="3051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racked"/>
              </a:rPr>
              <a:t>The man of </a:t>
            </a:r>
            <a:r>
              <a:rPr b="0" lang="en-US" sz="5400" spc="-1" strike="noStrike">
                <a:solidFill>
                  <a:srgbClr val="ff0000"/>
                </a:solidFill>
                <a:latin typeface="Cracked"/>
              </a:rPr>
              <a:t>fir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etheus stole the fire from heaven to bring to earth b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Ze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etheus played trick to Zeus and want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i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2760840"/>
            <a:ext cx="5257800" cy="4097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-87019" t="-86885" r="217308" b="217623"/>
          <a:stretch/>
        </p:blipFill>
        <p:spPr>
          <a:xfrm>
            <a:off x="5118120" y="-228600"/>
            <a:ext cx="4025880" cy="7086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Black Condensed"/>
              </a:rPr>
              <a:t>Prometheus’s punishment!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Prometheus was bound to a roc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Everyday giant eagle ate his l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as renewed every n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 Bold Italic"/>
              </a:rPr>
              <a:t>Connect with Frankenstein’s mon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Prometheus of punishment and the fooliness of pandora in releasing evil and suffering into the world are a version of the fall and the end of innocence as told in genes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He stole fire by harnessing the power of lighting to animate his mon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Related to Frankenstein as Victor rebels against the law of nature and as result is punished by his cre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The titan in the Greek mythology of Prometheus parallel Victor Frankens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Victor’s work by creating man by new means reflects the same innovative work of the titan in creating hum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Victor stole the secert of creation from god as the titan stole fire from heaven to give to him. Both Victor and Promethes are the punished by their actio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Victor’s punished, suffering the loss of these close to him and the dread of being killed himself by his creati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mythencyclopedia.com/Pa-Pr/Prometheus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://www.crossref-it.info/textguide/frankenstein/7/33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http://en.wikipedia.org/wiki/Frankenstein#Modern_Promethe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7:16:16Z</dcterms:created>
  <dc:creator>nps</dc:creator>
  <dc:description/>
  <dc:language>en-US</dc:language>
  <cp:lastModifiedBy>nps</cp:lastModifiedBy>
  <dcterms:modified xsi:type="dcterms:W3CDTF">2011-10-14T18:06:30Z</dcterms:modified>
  <cp:revision>9</cp:revision>
  <dc:subject/>
  <dc:title>The Prometheus Myth</dc:title>
</cp:coreProperties>
</file>